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72B-E1AC-481F-8C42-16238D6D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27A-71E3-4A84-BC82-DE152382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4CA-122F-4289-9BA0-F0B0EE0A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63D-E279-461A-9C07-E4D9750A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069-DFF4-4F04-BEFD-2DD34727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4A0-D452-49D9-B156-9D8F0373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E9C-03E1-4DDC-8D21-07CD9D3E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73B-6AA8-4F29-86F2-0CDAB687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1D6-FF82-433F-8F93-761F69E6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91E-6AD2-44CF-987A-C4734FE6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422-6719-43DA-BF2E-D3507B28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BEE-4A87-4BBB-9EE9-7F7B4ED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0F1F-D21A-4474-9928-03FFB6127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64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na Benavent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aput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320" y="2044800"/>
            <a:ext cx="67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udanças, visão i diálog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14360" y="1655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mos que conhecer e que avaliar os recursos disponíveis (com qu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mos que identificar os actores com os quais vamos construir as mudanças (com quem)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mos que definir os compromissos e as acções imediatas (com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840" y="1768320"/>
            <a:ext cx="28872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040" y="3348000"/>
            <a:ext cx="28908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5440" y="5172120"/>
            <a:ext cx="289080" cy="358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640" y="1158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00"/>
                </a:solidFill>
                <a:latin typeface="Arial"/>
              </a:rPr>
              <a:t>É necessário criar dispositivos de acompanh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37952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2276640"/>
            <a:ext cx="755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os processos que nos permitem avaliá-los e regulá-los (avanços e dificuldades, acordos e conflitos, resultados) para que, em cada etapa se redefina a etapa segui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429264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Muitas vezes sabemos o que queremos mas não sabemos como lá cheg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341360"/>
            <a:ext cx="2016000" cy="2521080"/>
          </a:xfrm>
          <a:prstGeom prst="downArrow">
            <a:avLst>
              <a:gd name="adj1" fmla="val 50000"/>
              <a:gd name="adj2" fmla="val 31263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1280" y="1557360"/>
            <a:ext cx="838836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alta de coordenação dos serviços ofi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urocracia e centralização da organização e da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alta de participação da sociedade na vida educ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usência de formação para conduzir , apoiar e avaliar estratégias partilh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5320" y="371520"/>
            <a:ext cx="701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stáculos partilhados por muitos países african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84600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77336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278136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14972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51664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is dos obstáculos referidos vos parecem ter consequências “mais pesadas”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vosso trabal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rquê?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o pensam que esses obstáculos podem ser ultrapassa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760" y="1454040"/>
            <a:ext cx="28872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deb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981000"/>
            <a:ext cx="482436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440" y="3025800"/>
            <a:ext cx="28908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9880" y="3808440"/>
            <a:ext cx="28908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Dos projectos aos plano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projectos: múltiplos, paralelos, sem continuidade nem mudanças estruturais consolid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integração dos projectos em planos permite explicitar etapas e a sua articulação, sempre em função dos objectivos a médio/longo pr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052640"/>
            <a:ext cx="288720" cy="358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27664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9440" y="391320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25320" y="1898640"/>
            <a:ext cx="74772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imensões  internacionai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er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egociações com as agência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inanci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1400" y="61740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00"/>
                </a:solidFill>
                <a:latin typeface="Arial"/>
              </a:rPr>
              <a:t>O diálog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000" y="79848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1560" y="315612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02716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0920" y="3768840"/>
            <a:ext cx="14472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40880" y="1864800"/>
            <a:ext cx="84027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imensões nacion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a dimensão interna (dentro do próprio governo entre educação e finanças, p. e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a dimensão externa: os parceiros e os actores edu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15424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26088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5840" y="4919760"/>
            <a:ext cx="14472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69880" y="1823760"/>
            <a:ext cx="76010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tes instrumentos visam a mobilização, a informação e a comunicação, visam a construção de consensos e a organização da participação na continuidade, assim como a formação de todos os parcei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0640" y="628560"/>
            <a:ext cx="69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00"/>
                </a:solidFill>
                <a:latin typeface="Arial"/>
              </a:rPr>
              <a:t>Os instrumentos do diálog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000" y="79848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82600" y="117900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Estados Gerais da Educação, os dias de reflexão, os dias “D”, os dias da concórdia, as semanas de portas abertas são instrumentos que visam a comunicação e a mobilização dos ac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7040" y="1374840"/>
            <a:ext cx="289080" cy="261720"/>
          </a:xfrm>
          <a:prstGeom prst="rightArrow">
            <a:avLst>
              <a:gd name="adj1" fmla="val 50000"/>
              <a:gd name="adj2" fmla="val 27613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Três exigências para realizar mudanças educativas consolidadas e positiv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3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preender a natureza das mudanças educ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struir uma visão partilhada da edu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aticar o diálogo político como estratégia de mobilização de toda a socie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82600" y="117900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pactos educativos, os ateliers de diálogo, as mesas de concertação  e de negociação, são instrumentos para a construção de consensos, ou seja, para a construção de uma visão partilh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000" y="1343160"/>
            <a:ext cx="288720" cy="261720"/>
          </a:xfrm>
          <a:prstGeom prst="rightArrow">
            <a:avLst>
              <a:gd name="adj1" fmla="val 50000"/>
              <a:gd name="adj2" fmla="val 27579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1480" y="2146320"/>
            <a:ext cx="832176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e iniciativas deste tipo têm tido lugar no vosso paí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 que resulta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61960"/>
            <a:ext cx="29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bat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5520" y="1163520"/>
            <a:ext cx="2698560" cy="716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8120" y="2279520"/>
            <a:ext cx="289080" cy="262080"/>
          </a:xfrm>
          <a:prstGeom prst="rightArrow">
            <a:avLst>
              <a:gd name="adj1" fmla="val 50000"/>
              <a:gd name="adj2" fmla="val 27576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738600"/>
            <a:ext cx="289080" cy="262080"/>
          </a:xfrm>
          <a:prstGeom prst="rightArrow">
            <a:avLst>
              <a:gd name="adj1" fmla="val 50000"/>
              <a:gd name="adj2" fmla="val 27576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364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na Benavent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aput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000000"/>
                </a:solidFill>
                <a:latin typeface="Arial"/>
              </a:rPr>
              <a:t>Os níveis de realidade: as pessoas, os grupos, as organizações, as instituiçõ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000000"/>
                </a:solidFill>
                <a:latin typeface="Arial"/>
              </a:rPr>
              <a:t>2.   Os poderes e os confli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000000"/>
                </a:solidFill>
                <a:latin typeface="Arial"/>
              </a:rPr>
              <a:t>3.   Das decisões políticas às práticas reais: papel dos act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8137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00"/>
                </a:solidFill>
                <a:latin typeface="Arial"/>
              </a:rPr>
              <a:t>Porque são as mudanças educativas tão difíce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84600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79640" y="5589720"/>
            <a:ext cx="590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oria de Palo 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84600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69228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 simples exercício dá-nos conta das dificuldades … inespe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00720" y="3070080"/>
            <a:ext cx="1441440" cy="1439280"/>
            <a:chOff x="4500720" y="3070080"/>
            <a:chExt cx="1441440" cy="1439280"/>
          </a:xfrm>
        </p:grpSpPr>
        <p:sp>
          <p:nvSpPr>
            <p:cNvPr id="52" name=""/>
            <p:cNvSpPr/>
            <p:nvPr/>
          </p:nvSpPr>
          <p:spPr>
            <a:xfrm>
              <a:off x="4500720" y="307008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48360" y="307008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7800" y="307008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00720" y="371772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48360" y="371772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7800" y="371772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4500720" y="436500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5148360" y="436500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5797800" y="436500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572000" y="3141720"/>
            <a:ext cx="193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62280" y="3141720"/>
            <a:ext cx="1942920" cy="19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141720"/>
            <a:ext cx="144000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141720"/>
            <a:ext cx="0" cy="19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60520" y="10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Querer, saber e poder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todos os níveis da re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ecisamos uns dos outros; ninguém muda sozinho e ninguém é, nunca, absolutamente determinado: as margens de liber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760" y="1192320"/>
            <a:ext cx="288720" cy="261720"/>
          </a:xfrm>
          <a:prstGeom prst="rightArrow">
            <a:avLst>
              <a:gd name="adj1" fmla="val 50000"/>
              <a:gd name="adj2" fmla="val 27579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520" y="3048120"/>
            <a:ext cx="289080" cy="261720"/>
          </a:xfrm>
          <a:prstGeom prst="rightArrow">
            <a:avLst>
              <a:gd name="adj1" fmla="val 50000"/>
              <a:gd name="adj2" fmla="val 27613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5640" y="2065320"/>
            <a:ext cx="835992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em são «os outros», ou seja, quem são os actores das mudanças educativ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is são os obstáculos à sua mobilização e à sua participação? O que dificulta? O que pode ajudar a resolv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8120" y="2257560"/>
            <a:ext cx="289080" cy="261720"/>
          </a:xfrm>
          <a:prstGeom prst="rightArrow">
            <a:avLst>
              <a:gd name="adj1" fmla="val 50000"/>
              <a:gd name="adj2" fmla="val 27613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12920"/>
            <a:ext cx="29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deb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5520" y="1014480"/>
            <a:ext cx="2698560" cy="71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4000" y="6297480"/>
            <a:ext cx="503280" cy="252720"/>
          </a:xfrm>
          <a:custGeom>
            <a:avLst/>
            <a:gdLst>
              <a:gd name="textAreaLeft" fmla="*/ 0 w 503280"/>
              <a:gd name="textAreaRight" fmla="*/ 503640 w 50328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T. 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4508280"/>
            <a:ext cx="7561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Plump MT"/>
              </a:rPr>
              <a:t>CONSTRUIR UMA VISÃO DA EDUCAÇÃO ARTICULANDO OBJECTIVOS, PROCESSOS 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348000" y="979920"/>
            <a:ext cx="2016000" cy="2592360"/>
          </a:xfrm>
          <a:prstGeom prst="upArrow">
            <a:avLst>
              <a:gd name="adj1" fmla="val 50000"/>
              <a:gd name="adj2" fmla="val 32147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2923920"/>
            <a:ext cx="814716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 objectivo, uma acção, uma iniciativa só têm sentido em relação a uma visão de conjunto que os justifica, orienta e avalia (como as peças de um puzzle que não significam nada sem o conju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836640"/>
            <a:ext cx="503280" cy="2014560"/>
          </a:xfrm>
          <a:prstGeom prst="downArrow">
            <a:avLst>
              <a:gd name="adj1" fmla="val 50000"/>
              <a:gd name="adj2" fmla="val 100072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2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struir uma visão exige que se saiba onde queremos chegar (os objectivo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isso, temos que saber de que realidade partimos (os diagnóstic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 através de que processos e de que passos faremos o caminho (as estratégias)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052640"/>
            <a:ext cx="288720" cy="358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708280"/>
            <a:ext cx="28872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4437000"/>
            <a:ext cx="28872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3:53:09Z</dcterms:created>
  <dc:creator>Jean</dc:creator>
  <dc:description/>
  <dc:language>en-US</dc:language>
  <cp:lastModifiedBy>p_decastro</cp:lastModifiedBy>
  <dcterms:modified xsi:type="dcterms:W3CDTF">2008-04-15T08:26:55Z</dcterms:modified>
  <cp:revision>83</cp:revision>
  <dc:subject/>
  <dc:title>Construire une vision de l’éducation,  articulant les objectifs, les processus et les résultats</dc:title>
</cp:coreProperties>
</file>