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0795-0202-447E-B719-0383D2A84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8DAA-D295-4182-A4F0-8D915BF0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633A-B072-4EDF-95C0-05BCE566A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A8C6-6EE5-43B6-96F1-FBDE796F7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9F0E-D2B1-4088-91FB-63AD6F4A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2767-FCA3-4729-A501-98A0A231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30DB-BE5D-4475-B36B-FB6798EC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65CF-19EE-4F63-A349-9798F81D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6BC9-500D-49D8-A5EA-CAF48742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299A-A7F8-47F6-85F5-18CC7FC5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8C6F-D02B-4C2C-8D25-453F16CE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C9CB-516F-4BD9-AB5A-6C50E8E8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5C76-95D5-4266-BB00-E727CE7BB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a50021"/>
                </a:solidFill>
                <a:latin typeface="Plump MT"/>
              </a:rPr>
              <a:t>Cenários para a escola de amanh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350028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CDE, BIE e outros con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16360" y="6491160"/>
            <a:ext cx="39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na Benavente 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©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Maputo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600"/>
                            </p:stCondLst>
                            <p:childTnLst>
                              <p:par>
                                <p:cTn id="1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2. a re-escolarização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Nesta perspectiva, partimos das “boas práticas” e procuramos refundar a escola que herdámos inscrevendo-a no centro das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PT" sz="2400" spc="-1" strike="noStrike">
                <a:solidFill>
                  <a:srgbClr val="a50021"/>
                </a:solidFill>
                <a:latin typeface="Arial"/>
              </a:rPr>
              <a:t>cenário 2A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u, noutra perspectiva procuramos tornar as escolas em centros de inteligência, mais autónomas, organizações “que aprendem”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PT" sz="2400" spc="-1" strike="noStrike">
                <a:solidFill>
                  <a:srgbClr val="a50021"/>
                </a:solidFill>
                <a:latin typeface="Arial"/>
              </a:rPr>
              <a:t>cenário 2B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25600" y="3727440"/>
            <a:ext cx="7904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Nesta segunda família de cenários, partimos da escola que herdámos e orientamos mudanças qualitativas de modo deliberado: rompemos “tabus” da escola tradicional e partimos das inovações que apontam o caminho do futu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1062000"/>
            <a:ext cx="1782720" cy="2005200"/>
          </a:xfrm>
          <a:prstGeom prst="downArrow">
            <a:avLst>
              <a:gd name="adj1" fmla="val 50000"/>
              <a:gd name="adj2" fmla="val 28120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3. A des-escolarização: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Diante das dificuldades da escola actual, acabamos com este modelo; seja propondo outras redes de aprendizagem (TIC, p. ex)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PT" sz="2400" spc="-1" strike="noStrike">
                <a:solidFill>
                  <a:srgbClr val="a50021"/>
                </a:solidFill>
                <a:latin typeface="Arial"/>
              </a:rPr>
              <a:t>cenário 3A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eja tornando a educação um bem submetido (como outros) às leis do mercado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PT" sz="2400" spc="-1" strike="noStrike">
                <a:solidFill>
                  <a:srgbClr val="a50021"/>
                </a:solidFill>
                <a:latin typeface="Arial"/>
              </a:rPr>
              <a:t>cenário 3B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95160" y="2468520"/>
            <a:ext cx="8015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Nesta terceira família de cenários, considera-se que a escola que conhecemos é um modelo ultrapassado e que são precisas outras respostas:  dispositivos formais e informais de aprendizagem, ou então as leis do mercado (escolas de línguas, de informática, etc.) O Estado abandona o seu compromisso com a escola que se compra e se vende como qualquer outro b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40160" y="390600"/>
            <a:ext cx="1782720" cy="2004840"/>
          </a:xfrm>
          <a:prstGeom prst="downArrow">
            <a:avLst>
              <a:gd name="adj1" fmla="val 50000"/>
              <a:gd name="adj2" fmla="val 28115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01720" y="2630520"/>
            <a:ext cx="7670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videntemente, estes cenários situam-se de modo muito diferente quanto ao acesso, à equidade e à qualidade da EPT, quanto ao estatuto dos professores e a todas as outras dimensões da vida educat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46040" y="2331720"/>
            <a:ext cx="8229600" cy="31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De que depende a nossa avaliaçã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da nossa visão da escola, das suas funções sociais e do seu papel no desenvolvimento sustentável, na luta contra a pobreza, na coesão social e na pa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9360" y="743040"/>
            <a:ext cx="791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Não são todos igualmente </a:t>
            </a:r>
            <a:r>
              <a:rPr b="1" lang="pt-PT" sz="2800" spc="-1" strike="noStrike">
                <a:solidFill>
                  <a:srgbClr val="a50021"/>
                </a:solidFill>
                <a:latin typeface="Arial"/>
              </a:rPr>
              <a:t>desejáveis e prováveis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22400" y="971640"/>
            <a:ext cx="20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Arial"/>
              </a:rPr>
              <a:t>Para deba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44640" y="3209760"/>
            <a:ext cx="732312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Como classificam os cenários de tipo 1 quanto a “desejável/indesejável” e “provável/improvável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orquê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87560" y="2432160"/>
            <a:ext cx="7111800" cy="903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96800" y="1062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E os de tipo 2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orquê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E os de tipo 3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orquê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Quais são então as consequências das vossas “previsões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O desejável mais provável? Com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5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63840" y="701640"/>
            <a:ext cx="643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utros elementos para deba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98480" y="1413000"/>
            <a:ext cx="7802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Quais as tendências que existem no vosso país para o reforço da escola tradicion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7720" y="3017880"/>
            <a:ext cx="747864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 em relação aos cenários de          re-escolarizaçã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 em relação aos cenários de         des-escolarizaçã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15800" y="639720"/>
            <a:ext cx="84121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Que será necessário fazer desde já para alcançar cenários de tipo 2 – re-escolarizaçã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0840" y="2198520"/>
            <a:ext cx="8046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Que prioridad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. Que obstácul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. Quais são os “perigos” (dificuldades/   bloqueios) da situação escolar no vosso paí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. E as oportunidad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23640" y="3573000"/>
            <a:ext cx="813564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s cenários são instrumentos estratégicos para reflectirmos, debatermos e orientarmos a acç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1422360"/>
            <a:ext cx="288720" cy="262080"/>
          </a:xfrm>
          <a:prstGeom prst="rightArrow">
            <a:avLst>
              <a:gd name="adj1" fmla="val 50000"/>
              <a:gd name="adj2" fmla="val 27541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126828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a50021"/>
                </a:solidFill>
                <a:latin typeface="Arial"/>
              </a:rPr>
              <a:t>O futuro não é uma fatalidade. Somos nós que o construímos a partir das tendências do presente.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3716280"/>
            <a:ext cx="288720" cy="262080"/>
          </a:xfrm>
          <a:prstGeom prst="rightArrow">
            <a:avLst>
              <a:gd name="adj1" fmla="val 50000"/>
              <a:gd name="adj2" fmla="val 27541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63644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Ana Benavente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Maputo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0560" y="3860280"/>
            <a:ext cx="8569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 partir das vontades, das realidades, dos factos e das tendências que se podem observar no pres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422360"/>
            <a:ext cx="288720" cy="262080"/>
          </a:xfrm>
          <a:prstGeom prst="rightArrow">
            <a:avLst>
              <a:gd name="adj1" fmla="val 50000"/>
              <a:gd name="adj2" fmla="val 27541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1341360"/>
            <a:ext cx="79214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s cenários são antecipações do futuro para podermos intervir em função da nossa “visão”, do que é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desejável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e do que é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ossível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4005360"/>
            <a:ext cx="288720" cy="261720"/>
          </a:xfrm>
          <a:prstGeom prst="rightArrow">
            <a:avLst>
              <a:gd name="adj1" fmla="val 50000"/>
              <a:gd name="adj2" fmla="val 27579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71480" y="4400640"/>
            <a:ext cx="764712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Como resolver os problemas de acesso, de equidade e de qualidade educativa na educação para tod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Que fazer com o insucesso e o abandono escola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46040" y="1741320"/>
            <a:ext cx="60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a50021"/>
                </a:solidFill>
                <a:latin typeface="Arial"/>
              </a:rPr>
              <a:t>Para além das diferenças entre os nossos países há questões e desafios que são comu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95840" y="380880"/>
            <a:ext cx="1152360" cy="1150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2440" y="345132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Como orientar a mudanç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50560" y="2997000"/>
            <a:ext cx="889308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De que se tr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De uma perspectiva para orientar e “pilotar” a mudanç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80000" y="838080"/>
            <a:ext cx="1152360" cy="1150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16360" y="206064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a50021"/>
                </a:solidFill>
                <a:latin typeface="Arial"/>
              </a:rPr>
              <a:t>Os cená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A partir de quê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Da realidade e dos diagnósticos que somos capazes de fazer, das tendências, das oportunidades, da nossa leitura do mundo, da avaliação das dinâmicas e das nossas esperanças e dos nossos desejo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83664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a50021"/>
                </a:solidFill>
                <a:latin typeface="Arial"/>
              </a:rPr>
              <a:t>Os cená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15800" y="21114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orquê e para quê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a agir, para tomar decisões, para fazer escolhas, para reflectir de modo descentrado sem estarmos sempre dominados (e só...) pelo imedi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87640" y="83664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a50021"/>
                </a:solidFill>
                <a:latin typeface="Arial"/>
              </a:rPr>
              <a:t>Os cená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17240" y="2108160"/>
            <a:ext cx="850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O status-quo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ter e reforçar as características da escola que herdá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elhorar sem mudança a nível da centralização e da burocracia 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PT" sz="2400" spc="-1" strike="noStrike">
                <a:solidFill>
                  <a:srgbClr val="a50021"/>
                </a:solidFill>
                <a:latin typeface="Arial"/>
              </a:rPr>
              <a:t>cenário 1 A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Crise de professores, indisciplina – a escola impossível de governar 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PT" sz="2400" spc="-1" strike="noStrike">
                <a:solidFill>
                  <a:srgbClr val="a50021"/>
                </a:solidFill>
                <a:latin typeface="Arial"/>
              </a:rPr>
              <a:t>cenário 1B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98680" y="349200"/>
            <a:ext cx="599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a50021"/>
                </a:solidFill>
                <a:latin typeface="Arial"/>
              </a:rPr>
              <a:t>Os seis cenários da OCDE organizados em “três família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85920" y="41814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Nesta primeira família de cenários, partimos do que herdámos e procuramos melhorar sem grandes mudanças: consegue-se... ou n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4320" y="1062000"/>
            <a:ext cx="1782720" cy="2005200"/>
          </a:xfrm>
          <a:prstGeom prst="downArrow">
            <a:avLst>
              <a:gd name="adj1" fmla="val 50000"/>
              <a:gd name="adj2" fmla="val 28120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4T09:01:08Z</dcterms:created>
  <dc:creator>Jean</dc:creator>
  <dc:description/>
  <dc:language>en-US</dc:language>
  <cp:lastModifiedBy>p_decastro</cp:lastModifiedBy>
  <dcterms:modified xsi:type="dcterms:W3CDTF">2008-04-15T08:26:16Z</dcterms:modified>
  <cp:revision>54</cp:revision>
  <dc:subject/>
  <dc:title>Les scénarios pour l’école de demain</dc:title>
</cp:coreProperties>
</file>